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FD5-20D6-4553-9AFE-5306FD2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175-8672-4BBE-B041-155329F6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BC9-5CEF-4D16-A8E8-76E13A32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444-142A-46F1-846B-021C9FB1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0A17-1626-499F-8164-75CE55E1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F00-4EAD-4ACC-B388-56613F22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6286-F482-47C7-A280-62AE1CE1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2588-5E8A-4C5F-9E29-B7A43D9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1090-E94E-455B-88F8-4A5D10A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D04E-6C70-4B20-B84D-F30E6BA4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1E20-A905-4D82-AFDA-AF475B5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DE5-2101-4464-83C0-D1E3F0F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C9BC-D63A-4C91-B97C-EA10434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A3B-27E5-4453-9B99-609850E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692D-5D9B-4DF7-ABC7-B6633F0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B1B2-E11E-4E67-B377-A0CDA35C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C9CB-4C27-4A57-AF35-86970B81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208-6A25-4C22-AAA1-047DA6CF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6B1-1B01-4095-9B8D-8B92076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DE6-9022-4F55-93D3-F14F5F5A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C29-3AD1-4D03-AFE0-FA1A0A5C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883-35C1-4D57-81D0-7FFC81AC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FD3-7345-4873-9F99-C485C42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78A-CEBE-48EE-B466-A5E4012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651-A11F-43B4-AFBB-B0F61CBBFBE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D7D0-369B-45B0-B9F8-F3D1B67A839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gymnasticscoaching.com/new/wp-content/uploads/2009/08/Nasti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rformance Ap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Febr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87972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32120" cy="204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268280"/>
            <a:ext cx="2735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Revision Question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125360"/>
            <a:ext cx="754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  Select a skill/technique from below and describe it in terms of the following: Preparation, Action, Recov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ehand Overhead Clear, Forehand Smash, Forehand Overhead Dropshot, High serv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 Describe what you did to compare your performance with a model performer? (Include PAR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3 Select 2 methods of practice and describe how they were used to develop that skill/technique.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4 Motivation, concentration and feedback are important factors that effect your performance in any ac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lect one o these factors and explain how it affected your performanc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10-02-22T12:42:26Z</dcterms:modified>
  <cp:revision>63</cp:revision>
  <dc:subject/>
  <dc:title>Slide 1</dc:title>
</cp:coreProperties>
</file>